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4.wmf" ContentType="image/x-wmf"/>
  <Override PartName="/ppt/media/image10.png" ContentType="image/png"/>
  <Override PartName="/ppt/media/image5.wmf" ContentType="image/x-wmf"/>
  <Override PartName="/ppt/media/image6.png" ContentType="image/png"/>
  <Override PartName="/ppt/media/image7.png" ContentType="image/png"/>
  <Override PartName="/ppt/media/image12.png" ContentType="image/png"/>
  <Override PartName="/ppt/media/image11.wmf" ContentType="image/x-wmf"/>
  <Override PartName="/ppt/media/image3.png" ContentType="image/png"/>
  <Override PartName="/ppt/media/image8.png" ContentType="image/png"/>
  <Override PartName="/ppt/media/image13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6F312-D64B-4EC4-BC29-49DB7897B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EB38B-A7E1-4C73-93A7-EF67F58B9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49BD4-E992-49CF-A572-12FF5EC43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33165-C44A-429A-85B9-B3B4F479D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14AA3-1807-4915-BEC8-0DC271EBA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6D54D-B233-4E26-949B-E1290086C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C7C17-9572-45C9-9636-EF75A25B1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980B9-CACA-4F9D-91A8-2C8009EF8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5A31D-DA16-43A0-848D-3D5D1BDBB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E6229-033C-40BB-BF14-958BE7ABA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D3BE1-EB98-4A7F-8AD8-591E22B1C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3A70A-8375-4E4E-98F1-79FF8291E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254A1-AC8F-492F-8A8D-EAE387EB78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11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5.wmf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11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5.wmf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11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5.wmf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11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5.wmf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11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5.wmf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11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5.wmf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11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5.wmf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11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5.wmf"/><Relationship Id="rId10" Type="http://schemas.openxmlformats.org/officeDocument/2006/relationships/image" Target="../media/image12.png"/><Relationship Id="rId11" Type="http://schemas.openxmlformats.org/officeDocument/2006/relationships/hyperlink" Target="mailto:orcamento@semad.mg.gov.br" TargetMode="External"/><Relationship Id="rId1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11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5.wmf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11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5.wmf"/><Relationship Id="rId10" Type="http://schemas.openxmlformats.org/officeDocument/2006/relationships/image" Target="../media/image12.png"/><Relationship Id="rId11" Type="http://schemas.openxmlformats.org/officeDocument/2006/relationships/image" Target="../media/image14.png"/><Relationship Id="rId1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11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5.wmf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11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5.wmf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11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5.wmf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11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5.wmf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11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5.wmf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e6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3203280" y="3715920"/>
            <a:ext cx="5940360" cy="62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Century Gothic"/>
              </a:rPr>
              <a:t>Sistema Estadual de Meio Ambi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5398920" y="2637000"/>
            <a:ext cx="3745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4d4d4d"/>
                </a:solidFill>
                <a:latin typeface="Arial"/>
              </a:rPr>
              <a:t>SISEM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0" descr="Logo FEAM"/>
          <p:cNvPicPr/>
          <p:nvPr/>
        </p:nvPicPr>
        <p:blipFill>
          <a:blip r:embed="rId1"/>
          <a:srcRect l="0" t="-4141" r="-3351" b="0"/>
          <a:stretch/>
        </p:blipFill>
        <p:spPr>
          <a:xfrm>
            <a:off x="2771640" y="638172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1" descr="logo ief"/>
          <p:cNvPicPr/>
          <p:nvPr/>
        </p:nvPicPr>
        <p:blipFill>
          <a:blip r:embed="rId2"/>
          <a:stretch/>
        </p:blipFill>
        <p:spPr>
          <a:xfrm>
            <a:off x="3925800" y="6453360"/>
            <a:ext cx="790560" cy="2253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2" descr="LogoIGAM"/>
          <p:cNvPicPr/>
          <p:nvPr/>
        </p:nvPicPr>
        <p:blipFill>
          <a:blip r:embed="rId3"/>
          <a:stretch/>
        </p:blipFill>
        <p:spPr>
          <a:xfrm>
            <a:off x="5218200" y="6364440"/>
            <a:ext cx="793800" cy="3492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4"/>
          <p:cNvSpPr/>
          <p:nvPr/>
        </p:nvSpPr>
        <p:spPr>
          <a:xfrm rot="5400000">
            <a:off x="5220000" y="2996280"/>
            <a:ext cx="287280" cy="289080"/>
          </a:xfrm>
          <a:prstGeom prst="rect">
            <a:avLst/>
          </a:prstGeom>
          <a:solidFill>
            <a:srgbClr val="6cbc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5"/>
          <p:cNvSpPr/>
          <p:nvPr/>
        </p:nvSpPr>
        <p:spPr>
          <a:xfrm rot="5400000">
            <a:off x="4499280" y="2996280"/>
            <a:ext cx="287280" cy="289080"/>
          </a:xfrm>
          <a:prstGeom prst="rect">
            <a:avLst/>
          </a:prstGeom>
          <a:solidFill>
            <a:srgbClr val="346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6"/>
          <p:cNvSpPr/>
          <p:nvPr/>
        </p:nvSpPr>
        <p:spPr>
          <a:xfrm rot="5400000">
            <a:off x="3708720" y="2996280"/>
            <a:ext cx="287280" cy="289080"/>
          </a:xfrm>
          <a:prstGeom prst="rect">
            <a:avLst/>
          </a:prstGeom>
          <a:solidFill>
            <a:srgbClr val="8156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Object 20"/>
          <p:cNvGraphicFramePr/>
          <p:nvPr/>
        </p:nvGraphicFramePr>
        <p:xfrm>
          <a:off x="0" y="4292640"/>
          <a:ext cx="9144000" cy="919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0" name="Object 20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4292640"/>
                    <a:ext cx="9144000" cy="9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" name="Object 21"/>
          <p:cNvGraphicFramePr/>
          <p:nvPr/>
        </p:nvGraphicFramePr>
        <p:xfrm>
          <a:off x="1547640" y="6308640"/>
          <a:ext cx="673200" cy="3891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2" name="Object 21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547640" y="6308640"/>
                    <a:ext cx="673200" cy="38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3" name="Picture 22" descr="logo governo 2007"/>
          <p:cNvPicPr/>
          <p:nvPr/>
        </p:nvPicPr>
        <p:blipFill>
          <a:blip r:embed="rId8"/>
          <a:stretch/>
        </p:blipFill>
        <p:spPr>
          <a:xfrm>
            <a:off x="6443640" y="6237360"/>
            <a:ext cx="1008000" cy="44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Logo FEAM"/>
          <p:cNvPicPr/>
          <p:nvPr/>
        </p:nvPicPr>
        <p:blipFill>
          <a:blip r:embed="rId1"/>
          <a:srcRect l="0" t="-4141" r="-3351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3" descr="logo ief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4" descr="LogoIGAM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4" name="Object 5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55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6" name="Object 6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57" name="Object 6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8" name="Object 7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59" name="Object 7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60" name="Picture 8" descr="logo governo 2007"/>
          <p:cNvPicPr/>
          <p:nvPr/>
        </p:nvPicPr>
        <p:blipFill>
          <a:blip r:embed="rId10"/>
          <a:stretch/>
        </p:blipFill>
        <p:spPr>
          <a:xfrm>
            <a:off x="8099280" y="404640"/>
            <a:ext cx="936720" cy="41292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68360" y="-4587480"/>
            <a:ext cx="7128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457200" y="907920"/>
          <a:ext cx="8147160" cy="5326200"/>
        </p:xfrm>
        <a:graphic>
          <a:graphicData uri="http://schemas.openxmlformats.org/drawingml/2006/table">
            <a:tbl>
              <a:tblPr/>
              <a:tblGrid>
                <a:gridCol w="1141560"/>
                <a:gridCol w="771480"/>
                <a:gridCol w="4402080"/>
                <a:gridCol w="1832040"/>
              </a:tblGrid>
              <a:tr h="27108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ÇÕES - SISEM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072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jetos Associados/Estruturador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5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NTIDAD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ÇÃ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SCRIÇÃ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JETO ASSOCIADO/         ESTRUTURADO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0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stão Ambiental Descentralizada – Escritórios Regionai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peci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440">
                <a:tc rowSpan="15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E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0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mpliação da Base Florestal Produtiv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02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moção do Desenv. Tecnológico da Silvicultura de Espécies Nativa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05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riação e Implantação de Áreas Protegida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05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fetivação do Uso Público de Unidades de Conservaçã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06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mpliação das Áreas de Vegetação Nativa e Promoção da Conectividade entre Fragmentos Florestais - PROMAT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06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visão e Evolução dos Instrumentos Normativo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.00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evenção e Combate a Incêndios Florestai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.02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estão Compartilhada da Faun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.05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teção da Biodiversidad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.06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ortalecimento da Gestão das Unidades de Conservaçã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.49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ndicionantes Ambientai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06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corporação dos Instrumentos de Pagamento de Serviços Ambientai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.05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iscalização e Monitoramento das Atividades de Exploração, Transporte e Consumo de Produtos da Fauna e Flor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.05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onitoramento Eletrônico do Transporte do Carvão Vegeta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0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financiamento de Implantação de Centro de Pesquisa e Difusão de Conhecimento da Biodiversidade (</a:t>
                      </a:r>
                      <a:r>
                        <a:rPr b="1" lang="pt-BR" sz="9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EP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Logo FEAM"/>
          <p:cNvPicPr/>
          <p:nvPr/>
        </p:nvPicPr>
        <p:blipFill>
          <a:blip r:embed="rId1"/>
          <a:srcRect l="0" t="-4141" r="-3351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3" descr="logo ief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4" descr="LogoIGAM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6" name="Object 5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6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Object 6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69" name="Object 6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0" name="Object 7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71" name="Object 7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72" name="Picture 8" descr="logo governo 2007"/>
          <p:cNvPicPr/>
          <p:nvPr/>
        </p:nvPicPr>
        <p:blipFill>
          <a:blip r:embed="rId10"/>
          <a:stretch/>
        </p:blipFill>
        <p:spPr>
          <a:xfrm>
            <a:off x="8099280" y="404640"/>
            <a:ext cx="936720" cy="41292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-4515480"/>
            <a:ext cx="8244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457200" y="1125360"/>
          <a:ext cx="8229600" cy="5423040"/>
        </p:xfrm>
        <a:graphic>
          <a:graphicData uri="http://schemas.openxmlformats.org/drawingml/2006/table">
            <a:tbl>
              <a:tblPr/>
              <a:tblGrid>
                <a:gridCol w="1185840"/>
                <a:gridCol w="771480"/>
                <a:gridCol w="4408560"/>
                <a:gridCol w="1863720"/>
              </a:tblGrid>
              <a:tr h="26676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ÇÕES - SISEM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676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jetos Associados/Estruturador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1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NTIDAD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ÇÃ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SCRIÇÃ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JETO ASSOCIADO/         ESTRUTURADO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999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0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nclusão da Criação e Estruturação dos Comitês de Bacias Hidrográficas nas UPGR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03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scalização e Controle dos Usos de Recursos Hídric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 rowSpan="11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GA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.14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onitoramento da Qualidade da Água e do Clim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0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0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nclusão do Plano Estadual de Recursos Hídrico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9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01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laboração e Aprovação dos Planos Diretores de Recursos Hídricos nas UPGRH´s selecionada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8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01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struturação do Sistema Estadual de Informações sobre Recursos Hídrico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9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01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mplementação das Agências de Bacias Hidrográficas ou Entidades a elas equiparada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01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mplementar a cobrança pelo Uso das Águas nas UPGRH´s selecionada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01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mplementação da Outorga para Lançamento de Efluent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.03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dastramento de Usos e Usuários de Recursos Hídrico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.04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onitoramento da Qualidade da Águ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31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tegração da Rede de Monitoramento da Qualidade da Águ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9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.08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elhoria das Condições Sanitárias e Despoluição das Bacias Hidrográficas -  PRO-ÁGUA-MG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8" descr="Logo FEAM"/>
          <p:cNvPicPr/>
          <p:nvPr/>
        </p:nvPicPr>
        <p:blipFill>
          <a:blip r:embed="rId1"/>
          <a:srcRect l="0" t="-4141" r="-3351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9" descr="logo ief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0" descr="LogoIGAM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8" name="Object 19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79" name="Object 19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0" name="Object 20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81" name="Object 20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2" name="Object 23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83" name="Object 23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4" name="Picture 24" descr="logo governo 2007"/>
          <p:cNvPicPr/>
          <p:nvPr/>
        </p:nvPicPr>
        <p:blipFill>
          <a:blip r:embed="rId10"/>
          <a:stretch/>
        </p:blipFill>
        <p:spPr>
          <a:xfrm>
            <a:off x="8099280" y="404640"/>
            <a:ext cx="936720" cy="412920"/>
          </a:xfrm>
          <a:prstGeom prst="rect">
            <a:avLst/>
          </a:prstGeom>
          <a:ln w="0">
            <a:noFill/>
          </a:ln>
        </p:spPr>
      </p:pic>
      <p:sp>
        <p:nvSpPr>
          <p:cNvPr id="185" name="Rectangle 25"/>
          <p:cNvSpPr/>
          <p:nvPr/>
        </p:nvSpPr>
        <p:spPr>
          <a:xfrm>
            <a:off x="395280" y="935640"/>
            <a:ext cx="8497800" cy="703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FONTES DE  RECURSOS DO SISEM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CURSOS ORDINÁRIO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Recursos do Tesouro para os quais não existe destinação específic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2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VÊNIOS, ACORDOS E AJUST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26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XA FLOREST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Recursos provenientes da ação fiscalizadora por intermédio do IEF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TILIZAÇÃO DE RECURSOS HIDRICO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Lei Federal nº.7.990 de 28/12/89. Recursos provenientes de indenização aos Estados e Municípios pela exploração, em seus territórios de recursos hídricos, para fins de geração de energia elétric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47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IENAÇÃO DE BEN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Recursos provenientes de alienação de bens que integram o patrimônio das entidades estaduais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2" descr="Logo FEAM"/>
          <p:cNvPicPr/>
          <p:nvPr/>
        </p:nvPicPr>
        <p:blipFill>
          <a:blip r:embed="rId1"/>
          <a:srcRect l="0" t="-4141" r="-3351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3" descr="logo ief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4" descr="LogoIGAM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9" name="Object 6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90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1" name="Object 7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92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3" name="Object 8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94" name="Object 8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95" name="Picture 9" descr="logo governo 2007"/>
          <p:cNvPicPr/>
          <p:nvPr/>
        </p:nvPicPr>
        <p:blipFill>
          <a:blip r:embed="rId10"/>
          <a:stretch/>
        </p:blipFill>
        <p:spPr>
          <a:xfrm>
            <a:off x="8099280" y="404640"/>
            <a:ext cx="936720" cy="412920"/>
          </a:xfrm>
          <a:prstGeom prst="rect">
            <a:avLst/>
          </a:prstGeom>
          <a:ln w="0">
            <a:noFill/>
          </a:ln>
        </p:spPr>
      </p:pic>
      <p:sp>
        <p:nvSpPr>
          <p:cNvPr id="196" name="Rectangle 10"/>
          <p:cNvSpPr/>
          <p:nvPr/>
        </p:nvSpPr>
        <p:spPr>
          <a:xfrm>
            <a:off x="611280" y="765000"/>
            <a:ext cx="78483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FONTES  DE RECURSOS DO SISEM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5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-  TAXA DE CONTROLE E FISCALIZAÇÃO  AMBIENTA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eniente da Lei nº. 14.940/2003. Exercício regular do poder de polícia conferido à FEAM e ao IEF para controle e fiscalização das atividades potencialmente poluidoras de recursos naturais;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6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- RECURSOS DIRETAMENTE ARRECADADO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ursos proveniente do esforço próprio de arrecadação de órgãos e entidades do Estad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6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CURSOS DIRETAMENTE ARRECADADOS COM VINCULAÇÃO       ESPECÍFICA – IEF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eposição Florestal – Lei Estadual nº. 14.3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eposição da Pesca – Lei Estadual  nº. 14.18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Compensação Ambiental – Lei Federal nº. 998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Logo FEAM"/>
          <p:cNvPicPr/>
          <p:nvPr/>
        </p:nvPicPr>
        <p:blipFill>
          <a:blip r:embed="rId1"/>
          <a:srcRect l="0" t="-4141" r="-3351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3" descr="logo ief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4" descr="LogoIGAM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00" name="Object 5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01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2" name="Object 6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03" name="Object 6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4" name="Object 7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05" name="Object 7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6" name="Picture 8" descr="logo governo 2007"/>
          <p:cNvPicPr/>
          <p:nvPr/>
        </p:nvPicPr>
        <p:blipFill>
          <a:blip r:embed="rId10"/>
          <a:stretch/>
        </p:blipFill>
        <p:spPr>
          <a:xfrm>
            <a:off x="8099280" y="404640"/>
            <a:ext cx="936720" cy="412920"/>
          </a:xfrm>
          <a:prstGeom prst="rect">
            <a:avLst/>
          </a:prstGeom>
          <a:ln w="0">
            <a:noFill/>
          </a:ln>
        </p:spPr>
      </p:pic>
      <p:sp>
        <p:nvSpPr>
          <p:cNvPr id="207" name="Rectangle 9"/>
          <p:cNvSpPr/>
          <p:nvPr/>
        </p:nvSpPr>
        <p:spPr>
          <a:xfrm>
            <a:off x="539640" y="765000"/>
            <a:ext cx="792000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FONTES  DE RECURSOS DO SISEM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SEMAD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çamento financiado com recursos das fontes: 10, 24 e 3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IGAM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rçamento financiado com recursos das fontes: 10, 24, 31,6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FEAM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rçamento financiado com recursos das fontes: 31, 52 e 6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IEF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rçamento financiado com recursos das fontes: 24, 26, 31, 47,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2, 60 e 6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2" descr="Logo FEAM"/>
          <p:cNvPicPr/>
          <p:nvPr/>
        </p:nvPicPr>
        <p:blipFill>
          <a:blip r:embed="rId1"/>
          <a:srcRect l="0" t="-4141" r="-3351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3" descr="logo ief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4" descr="LogoIGAM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1" name="Object 5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12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3" name="Object 6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14" name="Object 6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5" name="Object 7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16" name="Object 7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7" name="Picture 8" descr="logo governo 2007"/>
          <p:cNvPicPr/>
          <p:nvPr/>
        </p:nvPicPr>
        <p:blipFill>
          <a:blip r:embed="rId10"/>
          <a:stretch/>
        </p:blipFill>
        <p:spPr>
          <a:xfrm>
            <a:off x="8099280" y="404640"/>
            <a:ext cx="936720" cy="412920"/>
          </a:xfrm>
          <a:prstGeom prst="rect">
            <a:avLst/>
          </a:prstGeom>
          <a:ln w="0">
            <a:noFill/>
          </a:ln>
        </p:spPr>
      </p:pic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2320" y="-5234040"/>
            <a:ext cx="7452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O ORDENADOR DE DESPESAS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11"/>
          <p:cNvSpPr/>
          <p:nvPr/>
        </p:nvSpPr>
        <p:spPr>
          <a:xfrm>
            <a:off x="468360" y="2133720"/>
            <a:ext cx="8207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SSOA RESPONSÁVEL E INVESTIDA DE AUTORIDADE SUFICIENTE PARA PRATICAR O ATO DE EMPENH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 ORDENADOR DE DESPESA É O  MAIS GRADUADO DIRIGENTE DE PODER OU DE ENTIDADE PÚBLIC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REPONSABILIDADE DO ORDENADOR DE DESPESA É TOTAL, PESSOAL E INTRANSFERÍVEL E ELE RESPONDE COMO PESSOA FÍSICA, E NÃO COMO TITULAR DA PAS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 ORDERNADOR DE DESPESAS SÓ PODERÁ SER EXONERADO DE SUA RESPONSABILDADE APÓS JULGADAS REGULARES SUAS CONTAS PELO TRIBUNAL DE CONT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2" descr="Logo FEAM"/>
          <p:cNvPicPr/>
          <p:nvPr/>
        </p:nvPicPr>
        <p:blipFill>
          <a:blip r:embed="rId1"/>
          <a:srcRect l="0" t="-4141" r="-3351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3" descr="logo ief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4" descr="LogoIGAM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4" name="Object 5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25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6" name="Object 6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27" name="Object 6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8" name="Object 7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29" name="Object 7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30" name="Picture 8" descr="logo governo 2007"/>
          <p:cNvPicPr/>
          <p:nvPr/>
        </p:nvPicPr>
        <p:blipFill>
          <a:blip r:embed="rId10"/>
          <a:stretch/>
        </p:blipFill>
        <p:spPr>
          <a:xfrm>
            <a:off x="8099280" y="404640"/>
            <a:ext cx="936720" cy="41292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82320" y="-5234040"/>
            <a:ext cx="7452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DENADOR DE DESPE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11"/>
          <p:cNvSpPr/>
          <p:nvPr/>
        </p:nvSpPr>
        <p:spPr>
          <a:xfrm>
            <a:off x="468360" y="2349360"/>
            <a:ext cx="82072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DE SER DELEGADA AUTORIDADE DE ORDENADOR DE DESPESA A OUTRO SERVIDOR; NÃO SE  DELEGA A RESPONSABILIDADE, OS DOIS PASSAM A SER CO-RESPONSÁVEIS PELOS EMPENH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 EMPENHO DA DESPESA NÃO PODERÁ EXCEDER  O LIMITE DOS CRÉDITOS ORÇAMENTÁRIOS CONCEDID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É VEDADA A REALIZAÇÃO DE DESPESA SEM PRÉVIO EMPENH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OTA DE EMPENHO É O DOCUMENTO QUE INDICARÁ O NOME DO CREDOR, A CLASSIFICAÇÃO DA DOTAÇÃO ORÇAMENTÁRIA, A DESCRIÇÃO DA DESPESA E O SEU VAL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Picture 2" descr="Logo FEAM"/>
          <p:cNvPicPr/>
          <p:nvPr/>
        </p:nvPicPr>
        <p:blipFill>
          <a:blip r:embed="rId1"/>
          <a:srcRect l="0" t="-4141" r="-3351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3" descr="logo ief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4" descr="LogoIGAM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Object 5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38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9" name="Object 6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40" name="Object 6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1" name="Object 7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42" name="Object 7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43" name="Picture 8" descr="logo governo 2007"/>
          <p:cNvPicPr/>
          <p:nvPr/>
        </p:nvPicPr>
        <p:blipFill>
          <a:blip r:embed="rId10"/>
          <a:stretch/>
        </p:blipFill>
        <p:spPr>
          <a:xfrm>
            <a:off x="8099280" y="404640"/>
            <a:ext cx="936720" cy="412920"/>
          </a:xfrm>
          <a:prstGeom prst="rect">
            <a:avLst/>
          </a:prstGeom>
          <a:ln w="0">
            <a:noFill/>
          </a:ln>
        </p:spPr>
      </p:pic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82320" y="-5234040"/>
            <a:ext cx="7452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Coordenadoria de Planejamento e Orçamento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Equip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Myriam Maria da Silv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Helena Souza Camp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Ivone Barbo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Leila Andra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Mateus Mora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E-mail: </a:t>
            </a:r>
            <a:r>
              <a:rPr b="0" lang="pt-BR" sz="16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orcamento@semad.mg.gov.b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Fone: 3219.503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Site para consulta de detalhamento do orçamento e classificador de despes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www.planejamento.mg.gov.b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e6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382560" y="3068280"/>
            <a:ext cx="5761080" cy="62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4d4d4d"/>
                </a:solidFill>
                <a:latin typeface="Century Gothic"/>
              </a:rPr>
              <a:t>Palestrante: Myriam Maria da Sil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4d4d4d"/>
                </a:solidFill>
                <a:latin typeface="Century Gothic"/>
              </a:rPr>
              <a:t>Data: 20 e 22/02/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4"/>
          <p:cNvSpPr/>
          <p:nvPr/>
        </p:nvSpPr>
        <p:spPr>
          <a:xfrm>
            <a:off x="2195640" y="1989000"/>
            <a:ext cx="49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Century Gothic"/>
              </a:rPr>
              <a:t>PROGRAMAÇÃO ORÇAMENTÁ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8" descr="Logo FEAM"/>
          <p:cNvPicPr/>
          <p:nvPr/>
        </p:nvPicPr>
        <p:blipFill>
          <a:blip r:embed="rId1"/>
          <a:srcRect l="0" t="-4141" r="-3371" b="0"/>
          <a:stretch/>
        </p:blipFill>
        <p:spPr>
          <a:xfrm>
            <a:off x="2773440" y="6381720"/>
            <a:ext cx="718920" cy="297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9" descr="logo ief"/>
          <p:cNvPicPr/>
          <p:nvPr/>
        </p:nvPicPr>
        <p:blipFill>
          <a:blip r:embed="rId2"/>
          <a:stretch/>
        </p:blipFill>
        <p:spPr>
          <a:xfrm>
            <a:off x="3924360" y="6453360"/>
            <a:ext cx="792000" cy="2253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0" descr="LogoIGAM"/>
          <p:cNvPicPr/>
          <p:nvPr/>
        </p:nvPicPr>
        <p:blipFill>
          <a:blip r:embed="rId3"/>
          <a:stretch/>
        </p:blipFill>
        <p:spPr>
          <a:xfrm>
            <a:off x="5219640" y="6364440"/>
            <a:ext cx="792360" cy="349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9" name="Object 12"/>
          <p:cNvGraphicFramePr/>
          <p:nvPr/>
        </p:nvGraphicFramePr>
        <p:xfrm>
          <a:off x="0" y="2637000"/>
          <a:ext cx="9144000" cy="919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0" name="Object 1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2637000"/>
                    <a:ext cx="9144000" cy="9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" name="Object 13"/>
          <p:cNvGraphicFramePr/>
          <p:nvPr/>
        </p:nvGraphicFramePr>
        <p:xfrm>
          <a:off x="1547640" y="6308640"/>
          <a:ext cx="673200" cy="3891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2" name="Object 1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547640" y="6308640"/>
                    <a:ext cx="673200" cy="38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3" name="Picture 14" descr="logo governo 2007"/>
          <p:cNvPicPr/>
          <p:nvPr/>
        </p:nvPicPr>
        <p:blipFill>
          <a:blip r:embed="rId8"/>
          <a:stretch/>
        </p:blipFill>
        <p:spPr>
          <a:xfrm>
            <a:off x="6443640" y="6237360"/>
            <a:ext cx="1008000" cy="44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Logo FEAM"/>
          <p:cNvPicPr/>
          <p:nvPr/>
        </p:nvPicPr>
        <p:blipFill>
          <a:blip r:embed="rId1"/>
          <a:srcRect l="0" t="-4141" r="-3351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" descr="logo ief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4" descr="LogoIGAM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7" name="Object 5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8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" name="Object 6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70" name="Object 6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" name="Object 7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72" name="Object 7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3" name="Picture 8" descr="logo governo 2007"/>
          <p:cNvPicPr/>
          <p:nvPr/>
        </p:nvPicPr>
        <p:blipFill>
          <a:blip r:embed="rId10"/>
          <a:stretch/>
        </p:blipFill>
        <p:spPr>
          <a:xfrm>
            <a:off x="8099280" y="404640"/>
            <a:ext cx="936720" cy="4129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-185760" y="981000"/>
            <a:ext cx="347184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4e3b"/>
                </a:solidFill>
                <a:latin typeface="Arial"/>
              </a:rPr>
              <a:t>Relatório de Situ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13" descr=""/>
          <p:cNvPicPr/>
          <p:nvPr/>
        </p:nvPicPr>
        <p:blipFill>
          <a:blip r:embed="rId11"/>
          <a:srcRect l="2931" t="23438" r="3319" b="9180"/>
          <a:stretch/>
        </p:blipFill>
        <p:spPr>
          <a:xfrm>
            <a:off x="0" y="1714680"/>
            <a:ext cx="9144000" cy="49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Logo FEAM"/>
          <p:cNvPicPr/>
          <p:nvPr/>
        </p:nvPicPr>
        <p:blipFill>
          <a:blip r:embed="rId1"/>
          <a:srcRect l="0" t="-4141" r="-3351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3" descr="logo ief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4" descr="LogoIGAM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9" name="Object 5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" name="Object 6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2" name="Object 6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" name="Object 7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4" name="Object 7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5" name="Picture 8" descr="logo governo 2007"/>
          <p:cNvPicPr/>
          <p:nvPr/>
        </p:nvPicPr>
        <p:blipFill>
          <a:blip r:embed="rId10"/>
          <a:stretch/>
        </p:blipFill>
        <p:spPr>
          <a:xfrm>
            <a:off x="8099280" y="404640"/>
            <a:ext cx="936720" cy="41292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7000" y="-4911480"/>
            <a:ext cx="8100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1"/>
          <p:cNvSpPr/>
          <p:nvPr/>
        </p:nvSpPr>
        <p:spPr>
          <a:xfrm>
            <a:off x="2286000" y="1049400"/>
            <a:ext cx="4572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14" descr=""/>
          <p:cNvPicPr/>
          <p:nvPr/>
        </p:nvPicPr>
        <p:blipFill>
          <a:blip r:embed="rId11"/>
          <a:srcRect l="2931" t="6836" r="2587" b="28711"/>
          <a:stretch/>
        </p:blipFill>
        <p:spPr>
          <a:xfrm>
            <a:off x="0" y="1000080"/>
            <a:ext cx="921528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Logo FEAM"/>
          <p:cNvPicPr/>
          <p:nvPr/>
        </p:nvPicPr>
        <p:blipFill>
          <a:blip r:embed="rId1"/>
          <a:srcRect l="0" t="-4141" r="-3351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3" descr="logo ief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4" descr="LogoIGAM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2" name="Object 2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3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4" name="Object 3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95" name="Object 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6" name="Object 4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97" name="Object 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8" name="Picture 8" descr="logo governo 2007"/>
          <p:cNvPicPr/>
          <p:nvPr/>
        </p:nvPicPr>
        <p:blipFill>
          <a:blip r:embed="rId10"/>
          <a:stretch/>
        </p:blipFill>
        <p:spPr>
          <a:xfrm>
            <a:off x="8099280" y="404640"/>
            <a:ext cx="936720" cy="4129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7000" y="-4911480"/>
            <a:ext cx="8100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LIBERAÇÃO DE COTAS ORÇAMENTÁR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1"/>
          <p:cNvSpPr/>
          <p:nvPr/>
        </p:nvSpPr>
        <p:spPr>
          <a:xfrm>
            <a:off x="2286000" y="1049400"/>
            <a:ext cx="4572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2"/>
          <p:cNvSpPr/>
          <p:nvPr/>
        </p:nvSpPr>
        <p:spPr>
          <a:xfrm>
            <a:off x="468360" y="1989000"/>
            <a:ext cx="820728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   ACORDO  COM   A   LEGISLAÇÃO,  IMEDIATAMENTE  APÓS   A PROMULGAÇÃO DA LEI DE ORÇAMENTO E  COM BASE NOS LIMITES NELA  FIXADOS, O PODER  EXECUTIVO APROVARÁ UM QUADRO  DE COTA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UADRIMESTRA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A DESPESA PARA UTILIZAÇÃO DE CADA UNIDADE ORÇAMENTÁ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EGURAR ÀS UNIDADES A SOMA DOS RECURSOS NECESSÁR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TER EQUILÍBRIO ENTRE RECEITA E DESPE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13"/>
          <p:cNvSpPr/>
          <p:nvPr/>
        </p:nvSpPr>
        <p:spPr>
          <a:xfrm>
            <a:off x="4067280" y="3789360"/>
            <a:ext cx="503280" cy="503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Logo FEAM"/>
          <p:cNvPicPr/>
          <p:nvPr/>
        </p:nvPicPr>
        <p:blipFill>
          <a:blip r:embed="rId1"/>
          <a:srcRect l="0" t="-4141" r="-3351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logo ief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4" descr="LogoIGAM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7" name="Object 5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08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9" name="Object 6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10" name="Object 6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" name="Object 7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12" name="Object 7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3" name="Picture 8" descr="logo governo 2007"/>
          <p:cNvPicPr/>
          <p:nvPr/>
        </p:nvPicPr>
        <p:blipFill>
          <a:blip r:embed="rId10"/>
          <a:stretch/>
        </p:blipFill>
        <p:spPr>
          <a:xfrm>
            <a:off x="8099280" y="404640"/>
            <a:ext cx="936720" cy="412920"/>
          </a:xfrm>
          <a:prstGeom prst="rect">
            <a:avLst/>
          </a:prstGeom>
          <a:ln w="0">
            <a:noFill/>
          </a:ln>
        </p:spPr>
      </p:pic>
      <p:sp>
        <p:nvSpPr>
          <p:cNvPr id="114" name="Rectangle 9"/>
          <p:cNvSpPr/>
          <p:nvPr/>
        </p:nvSpPr>
        <p:spPr>
          <a:xfrm>
            <a:off x="0" y="-1637640"/>
            <a:ext cx="9325080" cy="105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533520" indent="-533520"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30000"/>
              </a:lnSpc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30000"/>
              </a:lnSpc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30000"/>
              </a:lnSpc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30000"/>
              </a:lnSpc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30000"/>
              </a:lnSpc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30000"/>
              </a:lnSpc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30000"/>
              </a:lnSpc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LIBERAÇÃO DE COTAS ORÇAMENTÁRIA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cc"/>
                </a:solidFill>
                <a:latin typeface="Arial"/>
              </a:rPr>
              <a:t>        </a:t>
            </a:r>
            <a:r>
              <a:rPr b="1" lang="pt-BR" sz="1800" spc="-1" strike="noStrike">
                <a:solidFill>
                  <a:srgbClr val="0000cc"/>
                </a:solidFill>
                <a:latin typeface="Arial"/>
              </a:rPr>
              <a:t>AÇÕES DE PROJETOS ASSOCIADOS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: Adequação e liberação de cotas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orçamentárias de acordo com o montante de recursos estipulados no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quadrimest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Anexo I do Decreto nº. 44.716 de 08/02/0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</a:t>
            </a:r>
            <a:r>
              <a:rPr b="1" lang="pt-BR" sz="1800" spc="-1" strike="noStrike" u="sng">
                <a:solidFill>
                  <a:srgbClr val="000000"/>
                </a:solidFill>
                <a:uFillTx/>
                <a:latin typeface="Arial"/>
              </a:rPr>
              <a:t>Custeio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:                        </a:t>
            </a:r>
            <a:r>
              <a:rPr b="1" lang="pt-BR" sz="1800" spc="-1" strike="noStrike" u="sng">
                <a:solidFill>
                  <a:srgbClr val="000000"/>
                </a:solidFill>
                <a:uFillTx/>
                <a:latin typeface="Arial"/>
              </a:rPr>
              <a:t>Investimento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-   1º. Quadrimestre:         30%                                   4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-   2º. Quadrimestre:         35%                                   3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-   3º. Quadrimestre:         35%                                   3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pt-BR" sz="18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cc"/>
                </a:solidFill>
                <a:latin typeface="Arial"/>
              </a:rPr>
              <a:t>AÇÕES   DE   PROJETOS   ESTRUTURADORES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:    Liberação  de  cotas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orçamentárias  após reunião mensal com a SEPLAG – fechamento do              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Relatório de Situação – Status Repor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»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A liberação das cotas orçamentárias, estão condicionadas à arrecadaçã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" descr="Logo FEAM"/>
          <p:cNvPicPr/>
          <p:nvPr/>
        </p:nvPicPr>
        <p:blipFill>
          <a:blip r:embed="rId1"/>
          <a:srcRect l="0" t="-4141" r="-3351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3" descr="logo ief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4" descr="LogoIGAM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8" name="Object 5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19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0" name="Object 6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1" name="Object 6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2" name="Object 7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23" name="Object 7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4" name="Picture 8" descr="logo governo 2007"/>
          <p:cNvPicPr/>
          <p:nvPr/>
        </p:nvPicPr>
        <p:blipFill>
          <a:blip r:embed="rId10"/>
          <a:stretch/>
        </p:blipFill>
        <p:spPr>
          <a:xfrm>
            <a:off x="8099280" y="404640"/>
            <a:ext cx="936720" cy="41292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-5234040"/>
            <a:ext cx="8244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42472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2. 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PROGRAMAÇÃO ORÇAMENTÁRIA MENSAL - PRAZ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cc"/>
                </a:solidFill>
                <a:latin typeface="Arial"/>
              </a:rPr>
              <a:t>PLANILHAS DE PROGRAMAÇÕES MENSAIS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 (Ações de Projetos Estruturadores + Ações de Projetos Associados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»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 Encaminhamento à Superintendência de Planejamento e Modernização, </a:t>
            </a:r>
            <a:r>
              <a:rPr b="1" i="1" lang="pt-BR" sz="1600" spc="-1" strike="noStrike" u="sng">
                <a:solidFill>
                  <a:srgbClr val="000000"/>
                </a:solidFill>
                <a:uFillTx/>
                <a:latin typeface="Arial"/>
              </a:rPr>
              <a:t>impreterivelmente,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   até o 5º dia útil de cada mê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» 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As programações deverão ser consolidadas por ação, indicando a codificação e assinatura do gerente / ordenador de despes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» 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A programação das ações dos Projetos Estruturadores, será a mesma a ser apresentada na reunião com a SEPLAG - Status Repor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Logo FEAM"/>
          <p:cNvPicPr/>
          <p:nvPr/>
        </p:nvPicPr>
        <p:blipFill>
          <a:blip r:embed="rId1"/>
          <a:srcRect l="0" t="-4141" r="-3351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3" descr="logo ief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4" descr="LogoIGAM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0" name="Object 5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31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Object 6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33" name="Object 6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Object 7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5" name="Object 7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6" name="Picture 8" descr="logo governo 2007"/>
          <p:cNvPicPr/>
          <p:nvPr/>
        </p:nvPicPr>
        <p:blipFill>
          <a:blip r:embed="rId10"/>
          <a:stretch/>
        </p:blipFill>
        <p:spPr>
          <a:xfrm>
            <a:off x="8099280" y="404640"/>
            <a:ext cx="936720" cy="41292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9"/>
          <p:cNvSpPr/>
          <p:nvPr/>
        </p:nvSpPr>
        <p:spPr>
          <a:xfrm>
            <a:off x="0" y="1200240"/>
            <a:ext cx="8748720" cy="554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533520" indent="-533520"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30000"/>
              </a:lnSpc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30000"/>
              </a:lnSpc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30000"/>
              </a:lnSpc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30000"/>
              </a:lnSpc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30000"/>
              </a:lnSpc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30000"/>
              </a:lnSpc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30000"/>
              </a:lnSpc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755640" y="1052640"/>
          <a:ext cx="7272360" cy="4827600"/>
        </p:xfrm>
        <a:graphic>
          <a:graphicData uri="http://schemas.openxmlformats.org/drawingml/2006/table">
            <a:tbl>
              <a:tblPr/>
              <a:tblGrid>
                <a:gridCol w="1085760"/>
                <a:gridCol w="727200"/>
                <a:gridCol w="3887640"/>
                <a:gridCol w="1571760"/>
              </a:tblGrid>
              <a:tr h="26316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ÇÕES - SISEM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316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jetos Associados/Estruturador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75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NTIDAD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ÇÃ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SCRIÇÃ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JETO ASSOCIADO/         ESTRUTURADO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434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04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stão Ambiental Descentralizada (Superintendências Regionais 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peci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560">
                <a:tc rowSpan="11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MA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.0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estão da Fiscalização Ambiental Integrad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5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.05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ducação e Extensão Ambient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.0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ordenação Técnic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.06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poio à Projetos de Gestão Ambient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05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odernização do Licenciamento Ambient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laboração de Projetos de intervenções de saneamento para os municípios fora da concessão da Copas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09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lano de Comunicação - Meta 20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.1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ducação Ambient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.6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struturação dos Parques Estaduais e dos Atrativos Naturai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.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eservação de mananciais e Controle de Águ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.6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ortalecimento da Gestão de Resíduos Sólid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Logo FEAM"/>
          <p:cNvPicPr/>
          <p:nvPr/>
        </p:nvPicPr>
        <p:blipFill>
          <a:blip r:embed="rId1"/>
          <a:srcRect l="0" t="-4141" r="-3351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3" descr="logo ief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4" descr="LogoIGAM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2" name="Object 5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43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4" name="Object 6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45" name="Object 6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6" name="Object 7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47" name="Object 7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8" name="Picture 8" descr="logo governo 2007"/>
          <p:cNvPicPr/>
          <p:nvPr/>
        </p:nvPicPr>
        <p:blipFill>
          <a:blip r:embed="rId10"/>
          <a:stretch/>
        </p:blipFill>
        <p:spPr>
          <a:xfrm>
            <a:off x="8099280" y="404640"/>
            <a:ext cx="936720" cy="41292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10920" y="-4334400"/>
            <a:ext cx="7308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457200" y="907920"/>
          <a:ext cx="7643880" cy="5689800"/>
        </p:xfrm>
        <a:graphic>
          <a:graphicData uri="http://schemas.openxmlformats.org/drawingml/2006/table">
            <a:tbl>
              <a:tblPr/>
              <a:tblGrid>
                <a:gridCol w="1255680"/>
                <a:gridCol w="790560"/>
                <a:gridCol w="4000680"/>
                <a:gridCol w="1596960"/>
              </a:tblGrid>
              <a:tr h="24948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ÇÕES - SISEM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236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jetos Associados/Estruturador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3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NTIDAD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ÇÃ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SCRIÇÃ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JETO ASSOCIADO/         ESTRUTURADO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408240">
                <a:tc rowSpan="1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A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0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senvolvimento de Instrumentos de Incentivo à Gestão Adequada de Resíduos Sólid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0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nutenção do Centro Mineiro de Referência em Resíduos e Alcance de Auto-sustentabilidad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06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poio à Implementação de Sistemas de Disposição Final Adequada - Minas sem Lixõ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8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0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timização de Sistemas de Gestão Adequada de Resíduos Sólidos por Empreendimentos Gerador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07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ducação e Extensão Ambient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07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mplementação da Coleta Seletiva, Reaproveitamento e Reciclag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0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poio à Implantação dos Planos de Gerenciamento de Resíduos de Serviços de Saúd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.0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poio às Cooperativas e Associações de Materiais Recicláveis(</a:t>
                      </a:r>
                      <a:r>
                        <a:rPr b="1" lang="en-US" sz="10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EP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.65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poio à Fiscalização Ambiental Integrad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.06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onitoramento da Qualidade Ambiental do Ar e dos Sol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.06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estão dos Passivos Ambientais da Mineraçã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7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.0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senvolvimento de Tecnologias para Fontes Alternativas de Energia e Produção Mais Limp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7T17:14:56Z</dcterms:created>
  <dc:creator>Daniela Giordano</dc:creator>
  <dc:description/>
  <dc:language>en-US</dc:language>
  <cp:lastModifiedBy>myriam.silva</cp:lastModifiedBy>
  <dcterms:modified xsi:type="dcterms:W3CDTF">2008-02-20T14:49:47Z</dcterms:modified>
  <cp:revision>58</cp:revision>
  <dc:subject/>
  <dc:title>Slide 1</dc:title>
</cp:coreProperties>
</file>